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1E6-1EB9-465D-8E51-EB01E132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B86-F9E6-409F-9928-34B7936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33C-A3F3-4F8E-907A-341C2263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A41-E7A2-421E-9B0A-8370F160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DDD-04C8-4BDA-9CA4-8550D874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46E-2FBB-416E-83B6-C981D55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22E-7A4D-4A1D-A080-7D792DC1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D18-D3E6-41DE-ADBB-CEEA3DE3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618-3F6F-4DDA-9431-8213040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C2A-77B5-4A19-B10F-57BF4938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98E-C9F9-455C-8E2C-228DF2BD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869-C8EC-4D90-836E-586D603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327-B8C2-4F60-8517-01FC39032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SWT - Diagramma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5333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cture 2/4 - Diagramming in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7-April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mallPoints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low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y are topological, graph-based constructions that are often filled with program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 control logic of the program is shown through simple branches and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y are usually generated by analysts as a specification to programmers, who then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vert the charts into sourc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wever, for large systems, they can get messy, spanning in many pages as decisions have many bran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oldstine claims he created the first flowchart for computers in 1947, while working with Von Neuma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flow1" descr=""/>
          <p:cNvPicPr/>
          <p:nvPr/>
        </p:nvPicPr>
        <p:blipFill>
          <a:blip r:embed="rId1"/>
          <a:stretch/>
        </p:blipFill>
        <p:spPr>
          <a:xfrm>
            <a:off x="7315200" y="1905120"/>
            <a:ext cx="15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low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1143000"/>
            <a:ext cx="152424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200400"/>
            <a:ext cx="152424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191120"/>
            <a:ext cx="1447920" cy="1218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905120"/>
            <a:ext cx="1524240" cy="6858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forma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5791320"/>
            <a:ext cx="1523880" cy="3808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33920" y="2895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424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1600" y="4357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5320" y="5334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Lprocess" descr=""/>
          <p:cNvPicPr/>
          <p:nvPr/>
        </p:nvPicPr>
        <p:blipFill>
          <a:blip r:embed="rId1"/>
          <a:stretch/>
        </p:blipFill>
        <p:spPr>
          <a:xfrm>
            <a:off x="6400800" y="220968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FLdecision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95256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FLio" descr=""/>
          <p:cNvPicPr/>
          <p:nvPr/>
        </p:nvPicPr>
        <p:blipFill>
          <a:blip r:embed="rId3"/>
          <a:stretch/>
        </p:blipFill>
        <p:spPr>
          <a:xfrm>
            <a:off x="7315200" y="3657600"/>
            <a:ext cx="1295280" cy="5526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5029200" y="5029200"/>
            <a:ext cx="952560" cy="476280"/>
            <a:chOff x="5029200" y="5029200"/>
            <a:chExt cx="952560" cy="476280"/>
          </a:xfrm>
        </p:grpSpPr>
        <p:pic>
          <p:nvPicPr>
            <p:cNvPr id="113" name="FLdisplay" descr=""/>
            <p:cNvPicPr/>
            <p:nvPr/>
          </p:nvPicPr>
          <p:blipFill>
            <a:blip r:embed="rId4"/>
            <a:stretch/>
          </p:blipFill>
          <p:spPr>
            <a:xfrm>
              <a:off x="5029200" y="5029200"/>
              <a:ext cx="9525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202000" y="50292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553080" y="914400"/>
            <a:ext cx="1828800" cy="476280"/>
            <a:chOff x="6553080" y="914400"/>
            <a:chExt cx="1828800" cy="476280"/>
          </a:xfrm>
        </p:grpSpPr>
        <p:pic>
          <p:nvPicPr>
            <p:cNvPr id="116" name="FLterminal" descr=""/>
            <p:cNvPicPr/>
            <p:nvPr/>
          </p:nvPicPr>
          <p:blipFill>
            <a:blip r:embed="rId5"/>
            <a:stretch/>
          </p:blipFill>
          <p:spPr>
            <a:xfrm>
              <a:off x="6553080" y="914400"/>
              <a:ext cx="18288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80600" y="9144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392240" y="37339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21000" y="37339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8200" y="2209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Nassi-Shneiderman (NS)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ierarchy is shown using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enclosure and adjac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sions are shown by splitting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lines into smaller, parallel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ops are shown by enclosing a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all box into a box labelled wit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condition of the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ever, the early termination of loops (e.g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and multiple conditionals present problems for NS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sd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0859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Nassi-Shneiderman (NS)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066680"/>
            <a:ext cx="609588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67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2096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1108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1676520"/>
            <a:ext cx="3048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48320" y="1676160"/>
            <a:ext cx="3047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480" y="16765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i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880" y="1828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360" y="1828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800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2819520"/>
            <a:ext cx="24386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34290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81952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29000" y="28191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480" y="28195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i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7960" y="22860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7960" y="487692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5410080"/>
            <a:ext cx="5486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6095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360" y="2971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880" y="2971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4290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540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5400" y="3962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8680" y="3581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8000" y="3581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2200" y="42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7480" y="5562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7480" y="6172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ructur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y are hierarchical, modula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eak downs of a 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tween tree levels, links indica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kind of information travel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tween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y are usually represented by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y are a part of the “structural analysis” activity, in which a system is partitioned in a top-down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ever, a multitude of labelled edges and nodes conveying lots of information can reduce rea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struct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1910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ructur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1066680"/>
            <a:ext cx="1981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124080"/>
            <a:ext cx="1981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ay reco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124080"/>
            <a:ext cx="1981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124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che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5486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486400"/>
            <a:ext cx="1981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18288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828800"/>
            <a:ext cx="2133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360" y="388620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3886200"/>
            <a:ext cx="990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514600" y="26665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74320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09680" y="24379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24080" y="1980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28600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752480"/>
            <a:ext cx="19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956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8006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266688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236232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18288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2096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25909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&amp;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720" y="1980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172200" y="2362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781680" y="27428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1981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95680" y="1904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48006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86692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95288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49528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352680" y="4648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572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257440" y="45720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a-flow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oriented to flow-typ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jects of data are shown in relationship to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decision logic i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iagrams are most often used to model the flow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ever, they usually get large and complex and multiple-page spanning happens nearly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dataflow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2857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ataflow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066680"/>
            <a:ext cx="1219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680" y="251460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066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1447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6560" y="1066680"/>
            <a:ext cx="21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1905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2743200"/>
            <a:ext cx="1523880" cy="990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343400"/>
            <a:ext cx="1524240" cy="990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8954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676520" y="3657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85800" y="5334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7120" y="4876920"/>
            <a:ext cx="159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809880"/>
            <a:ext cx="1600200" cy="990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1447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7440" y="19051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4360" y="3352680"/>
            <a:ext cx="32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CUSTOMER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6576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392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7392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75000" y="5105520"/>
            <a:ext cx="21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8006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41911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CUSTOMER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5715000"/>
            <a:ext cx="1752840" cy="9907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S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53341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20" y="5715000"/>
            <a:ext cx="217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ALID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43040" y="48006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49528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6324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6705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1160" y="632448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ORDE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58672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ntity-Relationship (ER)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representation of data is often accomplished using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R diagrams are usually used to depict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tremely simple – three types of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tity and Relations form a graph and can have associated attributes and cardi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1219320"/>
            <a:ext cx="1419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1600200"/>
            <a:ext cx="1371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295280"/>
            <a:ext cx="2133360" cy="1295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64720" y="164160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46680" y="16416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8840" y="167652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Entity-Relationship (ER)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5105520"/>
            <a:ext cx="14475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181480"/>
            <a:ext cx="1447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181480"/>
            <a:ext cx="1447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133720"/>
            <a:ext cx="1447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057400"/>
            <a:ext cx="1447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4800600"/>
            <a:ext cx="1371600" cy="1219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352680"/>
            <a:ext cx="1371600" cy="1219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352680"/>
            <a:ext cx="1371600" cy="1219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1752480"/>
            <a:ext cx="1371600" cy="1219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-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37160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4571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335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2767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668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668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371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2860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7524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066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066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057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1600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666520" y="1600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43000" y="23619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12193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9907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01000" y="15238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n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17524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162560" y="1523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001000" y="20570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6019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5638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3276720"/>
            <a:ext cx="1371600" cy="1218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152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3152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finiti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storical Fac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ps, Geometry, Topological Diagrams, Science and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vantages of Diagramm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agram use across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oftware Level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a higher level, the functions of a system are often thought as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diagrams work only on simple access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owever, more complex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hemes will result in a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lex graph tha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not be represented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th adjoining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3124080"/>
            <a:ext cx="350532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5680" y="32004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54864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99880" y="55627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95680" y="49528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9080" y="5029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7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1320" y="4495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3160" y="449568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6040" y="39625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ell and Arrow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 a combination of adjoinment and link-based conventions, data structures are often depicted as adjacent memory locations linked by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is is usually used for teaching purposes or for program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 programming, pointer manipulation of linked lists is shown as diagrams of Cell and Ar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ell and Arrow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2819520"/>
            <a:ext cx="1524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22096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5105520"/>
            <a:ext cx="1523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2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20968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N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514600"/>
            <a:ext cx="68580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cubicBezTo>
                  <a:pt x="108" y="360"/>
                  <a:pt x="216" y="336"/>
                  <a:pt x="240" y="288"/>
                </a:cubicBezTo>
                <a:cubicBezTo>
                  <a:pt x="264" y="240"/>
                  <a:pt x="112" y="144"/>
                  <a:pt x="144" y="96"/>
                </a:cubicBezTo>
                <a:cubicBezTo>
                  <a:pt x="176" y="48"/>
                  <a:pt x="384" y="16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2040" y="198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648320"/>
            <a:ext cx="1523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89120" y="106200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ertion of a new element (element2) into a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54864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4872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77320" y="30481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59800" y="2514600"/>
            <a:ext cx="647640" cy="939960"/>
          </a:xfrm>
          <a:custGeom>
            <a:avLst/>
            <a:gdLst/>
            <a:ahLst/>
            <a:rect l="l" t="t" r="r" b="b"/>
            <a:pathLst>
              <a:path w="408" h="592">
                <a:moveTo>
                  <a:pt x="248" y="0"/>
                </a:moveTo>
                <a:cubicBezTo>
                  <a:pt x="312" y="8"/>
                  <a:pt x="376" y="16"/>
                  <a:pt x="392" y="48"/>
                </a:cubicBezTo>
                <a:cubicBezTo>
                  <a:pt x="408" y="80"/>
                  <a:pt x="392" y="152"/>
                  <a:pt x="344" y="192"/>
                </a:cubicBezTo>
                <a:cubicBezTo>
                  <a:pt x="296" y="232"/>
                  <a:pt x="160" y="248"/>
                  <a:pt x="104" y="288"/>
                </a:cubicBezTo>
                <a:cubicBezTo>
                  <a:pt x="48" y="328"/>
                  <a:pt x="16" y="384"/>
                  <a:pt x="8" y="432"/>
                </a:cubicBezTo>
                <a:cubicBezTo>
                  <a:pt x="0" y="480"/>
                  <a:pt x="24" y="560"/>
                  <a:pt x="56" y="576"/>
                </a:cubicBezTo>
                <a:cubicBezTo>
                  <a:pt x="88" y="592"/>
                  <a:pt x="144" y="560"/>
                  <a:pt x="20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010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38280" y="4038480"/>
            <a:ext cx="1524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4343400"/>
            <a:ext cx="685800" cy="60948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384"/>
                </a:moveTo>
                <a:cubicBezTo>
                  <a:pt x="108" y="360"/>
                  <a:pt x="216" y="336"/>
                  <a:pt x="240" y="288"/>
                </a:cubicBezTo>
                <a:cubicBezTo>
                  <a:pt x="264" y="240"/>
                  <a:pt x="112" y="144"/>
                  <a:pt x="144" y="96"/>
                </a:cubicBezTo>
                <a:cubicBezTo>
                  <a:pt x="176" y="48"/>
                  <a:pt x="384" y="16"/>
                  <a:pt x="4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1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9400" y="41148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N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49528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L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59800" y="4419720"/>
            <a:ext cx="647640" cy="939600"/>
          </a:xfrm>
          <a:custGeom>
            <a:avLst/>
            <a:gdLst/>
            <a:ahLst/>
            <a:rect l="l" t="t" r="r" b="b"/>
            <a:pathLst>
              <a:path w="408" h="592">
                <a:moveTo>
                  <a:pt x="248" y="0"/>
                </a:moveTo>
                <a:cubicBezTo>
                  <a:pt x="312" y="8"/>
                  <a:pt x="376" y="16"/>
                  <a:pt x="392" y="48"/>
                </a:cubicBezTo>
                <a:cubicBezTo>
                  <a:pt x="408" y="80"/>
                  <a:pt x="392" y="152"/>
                  <a:pt x="344" y="192"/>
                </a:cubicBezTo>
                <a:cubicBezTo>
                  <a:pt x="296" y="232"/>
                  <a:pt x="160" y="248"/>
                  <a:pt x="104" y="288"/>
                </a:cubicBezTo>
                <a:cubicBezTo>
                  <a:pt x="48" y="328"/>
                  <a:pt x="16" y="384"/>
                  <a:pt x="8" y="432"/>
                </a:cubicBezTo>
                <a:cubicBezTo>
                  <a:pt x="0" y="480"/>
                  <a:pt x="24" y="560"/>
                  <a:pt x="56" y="576"/>
                </a:cubicBezTo>
                <a:cubicBezTo>
                  <a:pt x="88" y="592"/>
                  <a:pt x="144" y="560"/>
                  <a:pt x="20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01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4648320"/>
            <a:ext cx="5295960" cy="1600200"/>
          </a:xfrm>
          <a:custGeom>
            <a:avLst/>
            <a:gdLst/>
            <a:ahLst/>
            <a:rect l="l" t="t" r="r" b="b"/>
            <a:pathLst>
              <a:path w="3336" h="1008">
                <a:moveTo>
                  <a:pt x="0" y="720"/>
                </a:moveTo>
                <a:cubicBezTo>
                  <a:pt x="288" y="792"/>
                  <a:pt x="576" y="864"/>
                  <a:pt x="864" y="912"/>
                </a:cubicBezTo>
                <a:cubicBezTo>
                  <a:pt x="1152" y="960"/>
                  <a:pt x="1440" y="1008"/>
                  <a:pt x="1728" y="1008"/>
                </a:cubicBezTo>
                <a:cubicBezTo>
                  <a:pt x="2016" y="1008"/>
                  <a:pt x="2344" y="992"/>
                  <a:pt x="2592" y="912"/>
                </a:cubicBezTo>
                <a:cubicBezTo>
                  <a:pt x="2840" y="832"/>
                  <a:pt x="3096" y="680"/>
                  <a:pt x="3216" y="528"/>
                </a:cubicBezTo>
                <a:cubicBezTo>
                  <a:pt x="3336" y="376"/>
                  <a:pt x="3324" y="188"/>
                  <a:pt x="33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4680" y="4343400"/>
            <a:ext cx="419040" cy="1117440"/>
          </a:xfrm>
          <a:custGeom>
            <a:avLst/>
            <a:gdLst/>
            <a:ahLst/>
            <a:rect l="l" t="t" r="r" b="b"/>
            <a:pathLst>
              <a:path w="264" h="704">
                <a:moveTo>
                  <a:pt x="112" y="0"/>
                </a:moveTo>
                <a:cubicBezTo>
                  <a:pt x="180" y="20"/>
                  <a:pt x="248" y="40"/>
                  <a:pt x="256" y="96"/>
                </a:cubicBezTo>
                <a:cubicBezTo>
                  <a:pt x="264" y="152"/>
                  <a:pt x="200" y="272"/>
                  <a:pt x="160" y="336"/>
                </a:cubicBezTo>
                <a:cubicBezTo>
                  <a:pt x="120" y="400"/>
                  <a:pt x="32" y="424"/>
                  <a:pt x="16" y="480"/>
                </a:cubicBezTo>
                <a:cubicBezTo>
                  <a:pt x="0" y="536"/>
                  <a:pt x="24" y="640"/>
                  <a:pt x="64" y="672"/>
                </a:cubicBezTo>
                <a:cubicBezTo>
                  <a:pt x="104" y="704"/>
                  <a:pt x="180" y="688"/>
                  <a:pt x="256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868360" y="6019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53760" y="48769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6080" y="4343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4381560"/>
            <a:ext cx="914400" cy="1028520"/>
          </a:xfrm>
          <a:custGeom>
            <a:avLst/>
            <a:gdLst/>
            <a:ahLst/>
            <a:rect l="l" t="t" r="r" b="b"/>
            <a:pathLst>
              <a:path w="576" h="648">
                <a:moveTo>
                  <a:pt x="0" y="648"/>
                </a:moveTo>
                <a:cubicBezTo>
                  <a:pt x="64" y="640"/>
                  <a:pt x="128" y="632"/>
                  <a:pt x="192" y="600"/>
                </a:cubicBezTo>
                <a:cubicBezTo>
                  <a:pt x="256" y="568"/>
                  <a:pt x="352" y="528"/>
                  <a:pt x="384" y="456"/>
                </a:cubicBezTo>
                <a:cubicBezTo>
                  <a:pt x="416" y="384"/>
                  <a:pt x="376" y="240"/>
                  <a:pt x="384" y="168"/>
                </a:cubicBezTo>
                <a:cubicBezTo>
                  <a:pt x="392" y="96"/>
                  <a:pt x="400" y="48"/>
                  <a:pt x="432" y="24"/>
                </a:cubicBezTo>
                <a:cubicBezTo>
                  <a:pt x="464" y="0"/>
                  <a:pt x="520" y="12"/>
                  <a:pt x="576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ate Transitio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ll known in computer science as originating from the study of finite au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used for modelling a variety of event-based CS domains including parsing, user interface design, and circui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the application level, they represent transaction flows, appliance controls, marketing script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th the exception of special symbols and terminal nodes, all nodes are treated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ate Transitio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52120" y="113832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cognise if the pattern “bc” exists in string “aabaaabbab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2880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77120" y="32004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3276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2857680"/>
            <a:ext cx="609480" cy="1320480"/>
          </a:xfrm>
          <a:custGeom>
            <a:avLst/>
            <a:gdLst/>
            <a:ahLst/>
            <a:rect l="l" t="t" r="r" b="b"/>
            <a:pathLst>
              <a:path w="384" h="832">
                <a:moveTo>
                  <a:pt x="0" y="216"/>
                </a:moveTo>
                <a:cubicBezTo>
                  <a:pt x="64" y="108"/>
                  <a:pt x="128" y="0"/>
                  <a:pt x="192" y="24"/>
                </a:cubicBezTo>
                <a:cubicBezTo>
                  <a:pt x="256" y="48"/>
                  <a:pt x="384" y="232"/>
                  <a:pt x="384" y="360"/>
                </a:cubicBezTo>
                <a:cubicBezTo>
                  <a:pt x="384" y="488"/>
                  <a:pt x="256" y="752"/>
                  <a:pt x="192" y="792"/>
                </a:cubicBezTo>
                <a:cubicBezTo>
                  <a:pt x="128" y="832"/>
                  <a:pt x="32" y="632"/>
                  <a:pt x="0" y="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3505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5120" y="2590920"/>
            <a:ext cx="1054080" cy="1892160"/>
          </a:xfrm>
          <a:custGeom>
            <a:avLst/>
            <a:gdLst/>
            <a:ahLst/>
            <a:rect l="l" t="t" r="r" b="b"/>
            <a:pathLst>
              <a:path w="664" h="1192">
                <a:moveTo>
                  <a:pt x="96" y="384"/>
                </a:moveTo>
                <a:cubicBezTo>
                  <a:pt x="148" y="192"/>
                  <a:pt x="200" y="0"/>
                  <a:pt x="288" y="0"/>
                </a:cubicBezTo>
                <a:cubicBezTo>
                  <a:pt x="376" y="0"/>
                  <a:pt x="584" y="224"/>
                  <a:pt x="624" y="384"/>
                </a:cubicBezTo>
                <a:cubicBezTo>
                  <a:pt x="664" y="544"/>
                  <a:pt x="600" y="832"/>
                  <a:pt x="528" y="960"/>
                </a:cubicBezTo>
                <a:cubicBezTo>
                  <a:pt x="456" y="1088"/>
                  <a:pt x="280" y="1192"/>
                  <a:pt x="192" y="1152"/>
                </a:cubicBezTo>
                <a:cubicBezTo>
                  <a:pt x="104" y="1112"/>
                  <a:pt x="32" y="792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220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95280" y="2174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71240" y="255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63560" y="3657600"/>
            <a:ext cx="2756160" cy="1155600"/>
          </a:xfrm>
          <a:custGeom>
            <a:avLst/>
            <a:gdLst/>
            <a:ahLst/>
            <a:rect l="l" t="t" r="r" b="b"/>
            <a:pathLst>
              <a:path w="1736" h="728">
                <a:moveTo>
                  <a:pt x="1736" y="96"/>
                </a:moveTo>
                <a:cubicBezTo>
                  <a:pt x="1588" y="284"/>
                  <a:pt x="1440" y="472"/>
                  <a:pt x="1256" y="576"/>
                </a:cubicBezTo>
                <a:cubicBezTo>
                  <a:pt x="1072" y="680"/>
                  <a:pt x="824" y="728"/>
                  <a:pt x="632" y="720"/>
                </a:cubicBezTo>
                <a:cubicBezTo>
                  <a:pt x="440" y="712"/>
                  <a:pt x="208" y="624"/>
                  <a:pt x="104" y="528"/>
                </a:cubicBezTo>
                <a:cubicBezTo>
                  <a:pt x="0" y="432"/>
                  <a:pt x="8" y="232"/>
                  <a:pt x="8" y="144"/>
                </a:cubicBezTo>
                <a:cubicBezTo>
                  <a:pt x="8" y="56"/>
                  <a:pt x="56" y="28"/>
                  <a:pt x="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82680" y="3581280"/>
            <a:ext cx="3276720" cy="1676520"/>
          </a:xfrm>
          <a:custGeom>
            <a:avLst/>
            <a:gdLst/>
            <a:ahLst/>
            <a:rect l="l" t="t" r="r" b="b"/>
            <a:pathLst>
              <a:path w="2064" h="1056">
                <a:moveTo>
                  <a:pt x="2024" y="144"/>
                </a:moveTo>
                <a:cubicBezTo>
                  <a:pt x="2044" y="312"/>
                  <a:pt x="2064" y="480"/>
                  <a:pt x="1928" y="624"/>
                </a:cubicBezTo>
                <a:cubicBezTo>
                  <a:pt x="1792" y="768"/>
                  <a:pt x="1448" y="960"/>
                  <a:pt x="1208" y="1008"/>
                </a:cubicBezTo>
                <a:cubicBezTo>
                  <a:pt x="968" y="1056"/>
                  <a:pt x="680" y="1008"/>
                  <a:pt x="488" y="912"/>
                </a:cubicBezTo>
                <a:cubicBezTo>
                  <a:pt x="296" y="816"/>
                  <a:pt x="112" y="568"/>
                  <a:pt x="56" y="432"/>
                </a:cubicBezTo>
                <a:cubicBezTo>
                  <a:pt x="0" y="296"/>
                  <a:pt x="104" y="168"/>
                  <a:pt x="152" y="96"/>
                </a:cubicBezTo>
                <a:cubicBezTo>
                  <a:pt x="200" y="24"/>
                  <a:pt x="272" y="12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14240" y="407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4356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7960" y="3013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re closely related to data flow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he main distinction is that the graphs are bipartite, made up of a set of places and tran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Useful for concurrent, asynchronous, distributed, parallel, and nondeterministic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ach type of node can be further subdivided into sub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4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752480" y="57146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52480" y="5867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6248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295280" y="6400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4560" y="3962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ihi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5640" y="4495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1680" y="50292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4920" y="56386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4200" y="60958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4038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4572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105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57150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6248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722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172200" y="57146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5867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248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10080" y="6400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4760" y="396252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4760" y="44197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5120" y="49528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5562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7640" y="60958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670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36576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5867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67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95480" y="56386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27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144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294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9246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91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91320" y="297180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0" y="0"/>
                </a:moveTo>
                <a:cubicBezTo>
                  <a:pt x="20" y="152"/>
                  <a:pt x="40" y="304"/>
                  <a:pt x="96" y="384"/>
                </a:cubicBezTo>
                <a:cubicBezTo>
                  <a:pt x="152" y="464"/>
                  <a:pt x="264" y="464"/>
                  <a:pt x="336" y="480"/>
                </a:cubicBezTo>
                <a:cubicBezTo>
                  <a:pt x="408" y="496"/>
                  <a:pt x="496" y="472"/>
                  <a:pt x="528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1333440"/>
            <a:ext cx="3975120" cy="2476440"/>
          </a:xfrm>
          <a:custGeom>
            <a:avLst/>
            <a:gdLst/>
            <a:ahLst/>
            <a:rect l="l" t="t" r="r" b="b"/>
            <a:pathLst>
              <a:path w="2504" h="1560">
                <a:moveTo>
                  <a:pt x="2112" y="1560"/>
                </a:moveTo>
                <a:cubicBezTo>
                  <a:pt x="2200" y="1544"/>
                  <a:pt x="2288" y="1528"/>
                  <a:pt x="2352" y="1464"/>
                </a:cubicBezTo>
                <a:cubicBezTo>
                  <a:pt x="2416" y="1400"/>
                  <a:pt x="2488" y="1296"/>
                  <a:pt x="2496" y="1176"/>
                </a:cubicBezTo>
                <a:cubicBezTo>
                  <a:pt x="2504" y="1056"/>
                  <a:pt x="2480" y="896"/>
                  <a:pt x="2400" y="744"/>
                </a:cubicBezTo>
                <a:cubicBezTo>
                  <a:pt x="2320" y="592"/>
                  <a:pt x="2192" y="376"/>
                  <a:pt x="2016" y="264"/>
                </a:cubicBezTo>
                <a:cubicBezTo>
                  <a:pt x="1840" y="152"/>
                  <a:pt x="1584" y="112"/>
                  <a:pt x="1344" y="72"/>
                </a:cubicBezTo>
                <a:cubicBezTo>
                  <a:pt x="1104" y="32"/>
                  <a:pt x="800" y="0"/>
                  <a:pt x="576" y="24"/>
                </a:cubicBezTo>
                <a:cubicBezTo>
                  <a:pt x="352" y="48"/>
                  <a:pt x="176" y="132"/>
                  <a:pt x="0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79132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5638680"/>
            <a:ext cx="121932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240"/>
                </a:moveTo>
                <a:cubicBezTo>
                  <a:pt x="204" y="236"/>
                  <a:pt x="408" y="232"/>
                  <a:pt x="528" y="192"/>
                </a:cubicBezTo>
                <a:cubicBezTo>
                  <a:pt x="648" y="152"/>
                  <a:pt x="684" y="7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04920" y="1295280"/>
            <a:ext cx="3975120" cy="2476800"/>
          </a:xfrm>
          <a:custGeom>
            <a:avLst/>
            <a:gdLst/>
            <a:ahLst/>
            <a:rect l="l" t="t" r="r" b="b"/>
            <a:pathLst>
              <a:path w="2504" h="1560">
                <a:moveTo>
                  <a:pt x="2112" y="1560"/>
                </a:moveTo>
                <a:cubicBezTo>
                  <a:pt x="2200" y="1544"/>
                  <a:pt x="2288" y="1528"/>
                  <a:pt x="2352" y="1464"/>
                </a:cubicBezTo>
                <a:cubicBezTo>
                  <a:pt x="2416" y="1400"/>
                  <a:pt x="2488" y="1296"/>
                  <a:pt x="2496" y="1176"/>
                </a:cubicBezTo>
                <a:cubicBezTo>
                  <a:pt x="2504" y="1056"/>
                  <a:pt x="2480" y="896"/>
                  <a:pt x="2400" y="744"/>
                </a:cubicBezTo>
                <a:cubicBezTo>
                  <a:pt x="2320" y="592"/>
                  <a:pt x="2192" y="376"/>
                  <a:pt x="2016" y="264"/>
                </a:cubicBezTo>
                <a:cubicBezTo>
                  <a:pt x="1840" y="152"/>
                  <a:pt x="1584" y="112"/>
                  <a:pt x="1344" y="72"/>
                </a:cubicBezTo>
                <a:cubicBezTo>
                  <a:pt x="1104" y="32"/>
                  <a:pt x="800" y="0"/>
                  <a:pt x="576" y="24"/>
                </a:cubicBezTo>
                <a:cubicBezTo>
                  <a:pt x="352" y="48"/>
                  <a:pt x="176" y="132"/>
                  <a:pt x="0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572000" y="1751760"/>
            <a:ext cx="121932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240"/>
                </a:moveTo>
                <a:cubicBezTo>
                  <a:pt x="204" y="236"/>
                  <a:pt x="408" y="232"/>
                  <a:pt x="528" y="192"/>
                </a:cubicBezTo>
                <a:cubicBezTo>
                  <a:pt x="648" y="152"/>
                  <a:pt x="684" y="7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791320" y="388548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0" y="0"/>
                </a:moveTo>
                <a:cubicBezTo>
                  <a:pt x="20" y="152"/>
                  <a:pt x="40" y="304"/>
                  <a:pt x="96" y="384"/>
                </a:cubicBezTo>
                <a:cubicBezTo>
                  <a:pt x="152" y="464"/>
                  <a:pt x="264" y="464"/>
                  <a:pt x="336" y="480"/>
                </a:cubicBezTo>
                <a:cubicBezTo>
                  <a:pt x="408" y="496"/>
                  <a:pt x="496" y="472"/>
                  <a:pt x="528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048120" y="1751760"/>
            <a:ext cx="121896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240"/>
                </a:moveTo>
                <a:cubicBezTo>
                  <a:pt x="204" y="236"/>
                  <a:pt x="408" y="232"/>
                  <a:pt x="528" y="192"/>
                </a:cubicBezTo>
                <a:cubicBezTo>
                  <a:pt x="648" y="152"/>
                  <a:pt x="684" y="7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208960" y="2971800"/>
            <a:ext cx="83844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0" y="0"/>
                </a:moveTo>
                <a:cubicBezTo>
                  <a:pt x="20" y="152"/>
                  <a:pt x="40" y="304"/>
                  <a:pt x="96" y="384"/>
                </a:cubicBezTo>
                <a:cubicBezTo>
                  <a:pt x="152" y="464"/>
                  <a:pt x="264" y="464"/>
                  <a:pt x="336" y="480"/>
                </a:cubicBezTo>
                <a:cubicBezTo>
                  <a:pt x="408" y="496"/>
                  <a:pt x="496" y="472"/>
                  <a:pt x="528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208960" y="3885480"/>
            <a:ext cx="83844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0" y="0"/>
                </a:moveTo>
                <a:cubicBezTo>
                  <a:pt x="20" y="152"/>
                  <a:pt x="40" y="304"/>
                  <a:pt x="96" y="384"/>
                </a:cubicBezTo>
                <a:cubicBezTo>
                  <a:pt x="152" y="464"/>
                  <a:pt x="264" y="464"/>
                  <a:pt x="336" y="480"/>
                </a:cubicBezTo>
                <a:cubicBezTo>
                  <a:pt x="408" y="496"/>
                  <a:pt x="496" y="472"/>
                  <a:pt x="528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04812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048120" y="5638680"/>
            <a:ext cx="121896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240"/>
                </a:moveTo>
                <a:cubicBezTo>
                  <a:pt x="204" y="236"/>
                  <a:pt x="408" y="232"/>
                  <a:pt x="528" y="192"/>
                </a:cubicBezTo>
                <a:cubicBezTo>
                  <a:pt x="648" y="152"/>
                  <a:pt x="684" y="76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765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560" y="3961800"/>
            <a:ext cx="3975120" cy="2476440"/>
          </a:xfrm>
          <a:custGeom>
            <a:avLst/>
            <a:gdLst/>
            <a:ahLst/>
            <a:rect l="l" t="t" r="r" b="b"/>
            <a:pathLst>
              <a:path w="2504" h="1560">
                <a:moveTo>
                  <a:pt x="2112" y="1560"/>
                </a:moveTo>
                <a:cubicBezTo>
                  <a:pt x="2200" y="1544"/>
                  <a:pt x="2288" y="1528"/>
                  <a:pt x="2352" y="1464"/>
                </a:cubicBezTo>
                <a:cubicBezTo>
                  <a:pt x="2416" y="1400"/>
                  <a:pt x="2488" y="1296"/>
                  <a:pt x="2496" y="1176"/>
                </a:cubicBezTo>
                <a:cubicBezTo>
                  <a:pt x="2504" y="1056"/>
                  <a:pt x="2480" y="896"/>
                  <a:pt x="2400" y="744"/>
                </a:cubicBezTo>
                <a:cubicBezTo>
                  <a:pt x="2320" y="592"/>
                  <a:pt x="2192" y="376"/>
                  <a:pt x="2016" y="264"/>
                </a:cubicBezTo>
                <a:cubicBezTo>
                  <a:pt x="1840" y="152"/>
                  <a:pt x="1584" y="112"/>
                  <a:pt x="1344" y="72"/>
                </a:cubicBezTo>
                <a:cubicBezTo>
                  <a:pt x="1104" y="32"/>
                  <a:pt x="800" y="0"/>
                  <a:pt x="576" y="24"/>
                </a:cubicBezTo>
                <a:cubicBezTo>
                  <a:pt x="352" y="48"/>
                  <a:pt x="176" y="132"/>
                  <a:pt x="0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4572000" y="3961800"/>
            <a:ext cx="3975120" cy="2476440"/>
          </a:xfrm>
          <a:custGeom>
            <a:avLst/>
            <a:gdLst/>
            <a:ahLst/>
            <a:rect l="l" t="t" r="r" b="b"/>
            <a:pathLst>
              <a:path w="2504" h="1560">
                <a:moveTo>
                  <a:pt x="2112" y="1560"/>
                </a:moveTo>
                <a:cubicBezTo>
                  <a:pt x="2200" y="1544"/>
                  <a:pt x="2288" y="1528"/>
                  <a:pt x="2352" y="1464"/>
                </a:cubicBezTo>
                <a:cubicBezTo>
                  <a:pt x="2416" y="1400"/>
                  <a:pt x="2488" y="1296"/>
                  <a:pt x="2496" y="1176"/>
                </a:cubicBezTo>
                <a:cubicBezTo>
                  <a:pt x="2504" y="1056"/>
                  <a:pt x="2480" y="896"/>
                  <a:pt x="2400" y="744"/>
                </a:cubicBezTo>
                <a:cubicBezTo>
                  <a:pt x="2320" y="592"/>
                  <a:pt x="2192" y="376"/>
                  <a:pt x="2016" y="264"/>
                </a:cubicBezTo>
                <a:cubicBezTo>
                  <a:pt x="1840" y="152"/>
                  <a:pt x="1584" y="112"/>
                  <a:pt x="1344" y="72"/>
                </a:cubicBezTo>
                <a:cubicBezTo>
                  <a:pt x="1104" y="32"/>
                  <a:pt x="800" y="0"/>
                  <a:pt x="576" y="24"/>
                </a:cubicBezTo>
                <a:cubicBezTo>
                  <a:pt x="352" y="48"/>
                  <a:pt x="176" y="132"/>
                  <a:pt x="0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9880" y="1066680"/>
            <a:ext cx="13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19051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5880" y="198108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6240" y="259092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1280" y="2971800"/>
            <a:ext cx="15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D and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2840" y="259092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6280" y="2971800"/>
            <a:ext cx="157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D and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1676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5943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63244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560" y="40384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4760" y="40384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91520" y="4038480"/>
            <a:ext cx="10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and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4114800"/>
            <a:ext cx="10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and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20280" y="464832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29160" y="4648320"/>
            <a:ext cx="10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Re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5880" y="54864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76520" y="54864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gic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gic gates are the components of logi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re are three main gates: AND, OR and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AND gate returns “true” (or 1) if both of its inputs are “tr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 OR gate returns “true” (or 1) if either of its inputs is “tru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NOT gate returns the opposite of its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bool-and" descr=""/>
          <p:cNvPicPr/>
          <p:nvPr/>
        </p:nvPicPr>
        <p:blipFill>
          <a:blip r:embed="rId1">
            <a:biLevel thresh="50000"/>
            <a:lum contrast="72000"/>
          </a:blip>
          <a:stretch/>
        </p:blipFill>
        <p:spPr>
          <a:xfrm>
            <a:off x="1219320" y="4648320"/>
            <a:ext cx="1303200" cy="593640"/>
          </a:xfrm>
          <a:prstGeom prst="rect">
            <a:avLst/>
          </a:prstGeom>
          <a:ln w="0">
            <a:noFill/>
          </a:ln>
        </p:spPr>
      </p:pic>
      <p:pic>
        <p:nvPicPr>
          <p:cNvPr id="462" name="bool-not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22560" cy="536760"/>
          </a:xfrm>
          <a:prstGeom prst="rect">
            <a:avLst/>
          </a:prstGeom>
          <a:ln w="0">
            <a:noFill/>
          </a:ln>
        </p:spPr>
      </p:pic>
      <p:pic>
        <p:nvPicPr>
          <p:cNvPr id="463" name="bool-or" descr=""/>
          <p:cNvPicPr/>
          <p:nvPr/>
        </p:nvPicPr>
        <p:blipFill>
          <a:blip r:embed="rId3"/>
          <a:stretch/>
        </p:blipFill>
        <p:spPr>
          <a:xfrm>
            <a:off x="3886200" y="4648320"/>
            <a:ext cx="1257480" cy="6174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914400" y="419112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               OR                          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71600" y="5181480"/>
            <a:ext cx="146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B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1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1     1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518148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B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1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0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1     1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29400" y="5181480"/>
            <a:ext cx="14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gic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ogic circuits are used in electronic dev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rmed by combining many logic 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re complex logic circuits are assembled from simpler ones which in turn are assembled from 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62520" y="518148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B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1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0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1     0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bool-xor-detail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43434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bining gates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N input gate can be constructed by placing N gates in a special configura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2971800"/>
            <a:ext cx="609480" cy="60948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3429000"/>
            <a:ext cx="609840" cy="60948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4952880"/>
            <a:ext cx="609840" cy="609840"/>
          </a:xfrm>
          <a:prstGeom prst="flowChartDelay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886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0574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26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26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232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952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623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620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91620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5480" y="5334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35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72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or" descr=""/>
          <p:cNvPicPr/>
          <p:nvPr/>
        </p:nvPicPr>
        <p:blipFill>
          <a:blip r:embed="rId1"/>
          <a:stretch/>
        </p:blipFill>
        <p:spPr>
          <a:xfrm>
            <a:off x="5410080" y="3067200"/>
            <a:ext cx="1257480" cy="7426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5029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1148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816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0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260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257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2314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or" descr=""/>
          <p:cNvPicPr/>
          <p:nvPr/>
        </p:nvPicPr>
        <p:blipFill>
          <a:blip r:embed="rId2"/>
          <a:stretch/>
        </p:blipFill>
        <p:spPr>
          <a:xfrm>
            <a:off x="6781680" y="3600360"/>
            <a:ext cx="1257480" cy="743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63868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47242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0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541008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9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or" descr=""/>
          <p:cNvPicPr/>
          <p:nvPr/>
        </p:nvPicPr>
        <p:blipFill>
          <a:blip r:embed="rId3"/>
          <a:stretch/>
        </p:blipFill>
        <p:spPr>
          <a:xfrm>
            <a:off x="5562720" y="4952880"/>
            <a:ext cx="12571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agram Disti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agram Tax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Diagram use in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Venn, Flowcharts, NSD’s, Structure, Dataflow, ERD’s, Cell and Arrows, State, Petri n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Logic Gate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How to operate Theseus under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Other Logic 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bool-nand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1257120" cy="533160"/>
          </a:xfrm>
          <a:prstGeom prst="rect">
            <a:avLst/>
          </a:prstGeom>
          <a:ln w="0">
            <a:noFill/>
          </a:ln>
        </p:spPr>
      </p:pic>
      <p:pic>
        <p:nvPicPr>
          <p:cNvPr id="518" name="bool-nor" descr=""/>
          <p:cNvPicPr/>
          <p:nvPr/>
        </p:nvPicPr>
        <p:blipFill>
          <a:blip r:embed="rId2"/>
          <a:stretch/>
        </p:blipFill>
        <p:spPr>
          <a:xfrm>
            <a:off x="5943600" y="609480"/>
            <a:ext cx="1171440" cy="524160"/>
          </a:xfrm>
          <a:prstGeom prst="rect">
            <a:avLst/>
          </a:prstGeom>
          <a:ln w="0">
            <a:noFill/>
          </a:ln>
        </p:spPr>
      </p:pic>
      <p:pic>
        <p:nvPicPr>
          <p:cNvPr id="519" name="bool-xnor" descr=""/>
          <p:cNvPicPr/>
          <p:nvPr/>
        </p:nvPicPr>
        <p:blipFill>
          <a:blip r:embed="rId3"/>
          <a:stretch/>
        </p:blipFill>
        <p:spPr>
          <a:xfrm>
            <a:off x="5867280" y="4876920"/>
            <a:ext cx="1152720" cy="542880"/>
          </a:xfrm>
          <a:prstGeom prst="rect">
            <a:avLst/>
          </a:prstGeom>
          <a:ln w="0">
            <a:noFill/>
          </a:ln>
        </p:spPr>
      </p:pic>
      <p:pic>
        <p:nvPicPr>
          <p:cNvPr id="520" name="xor" descr=""/>
          <p:cNvPicPr/>
          <p:nvPr/>
        </p:nvPicPr>
        <p:blipFill>
          <a:blip r:embed="rId4"/>
          <a:stretch/>
        </p:blipFill>
        <p:spPr>
          <a:xfrm>
            <a:off x="1905120" y="2895480"/>
            <a:ext cx="838080" cy="581040"/>
          </a:xfrm>
          <a:prstGeom prst="rect">
            <a:avLst/>
          </a:prstGeom>
          <a:ln w="0">
            <a:noFill/>
          </a:ln>
        </p:spPr>
      </p:pic>
      <p:pic>
        <p:nvPicPr>
          <p:cNvPr id="521" name="buffer" descr=""/>
          <p:cNvPicPr/>
          <p:nvPr/>
        </p:nvPicPr>
        <p:blipFill>
          <a:blip r:embed="rId5"/>
          <a:stretch/>
        </p:blipFill>
        <p:spPr>
          <a:xfrm>
            <a:off x="4191120" y="44197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401880" y="220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30840" y="152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78200" y="4572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4440" y="29718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800" y="4495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457200"/>
            <a:ext cx="11430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0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1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1 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2590920"/>
            <a:ext cx="9907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1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0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1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3581280"/>
            <a:ext cx="129528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0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1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0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1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4572000"/>
            <a:ext cx="137160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B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0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1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0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1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Narrow"/>
              </a:rPr>
              <a:t>Analog Circuit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band-pass-analog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676600" cy="2124000"/>
          </a:xfrm>
          <a:prstGeom prst="rect">
            <a:avLst/>
          </a:prstGeom>
          <a:ln w="0">
            <a:noFill/>
          </a:ln>
        </p:spPr>
      </p:pic>
      <p:pic>
        <p:nvPicPr>
          <p:cNvPr id="533" name="printer-error-alarm-analog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5562720" cy="3276720"/>
          </a:xfrm>
          <a:prstGeom prst="rect">
            <a:avLst/>
          </a:prstGeom>
          <a:ln w="0">
            <a:noFill/>
          </a:ln>
        </p:spPr>
      </p:pic>
      <p:pic>
        <p:nvPicPr>
          <p:cNvPr id="534" name="xtal-osc-analog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324160" cy="32004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present electronic design sche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rict Notation - Graph-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 of lectur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agram Disti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agrams portray associ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tric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pologica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ymbo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computer systems, above the hardware level, Euclidean space is un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ch more common in software diagrams are associations in topological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agram Disti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ithin topological diagrams, associations can happen in three principal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djo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in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743200"/>
            <a:ext cx="5331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2743200"/>
            <a:ext cx="533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8098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038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724280"/>
            <a:ext cx="16761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49528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iagram Taxonom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 Taxonomy is useful only to the ones that us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 simple diagrammatic taxonomy can be based on the diagrammatic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everal researchers have focused on a variety of diagrammatic aspects and have proposed respective class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fforts to categorise diagrams have created a large set of taxonom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Alan. Blackwel * has proposed a taxonomy of taxonomi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* http://www.mrc-cbu.cam.ac.uk/projects/twd/mypapers/TwD98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A taxonomy of Diagram Taxonom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mensions of categorisa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. The represen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graphic domain &amp;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. The mess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nformation do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. The relation between the representation and the mess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ctorial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. The process of interpreting and modifying represent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formation processing &amp;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5. The context - conven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ltural co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. The ment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99920" indent="-15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personal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re related to circuits and logic 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ements use containment to depic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ndard mathematical functions like “a set of”, “a genuine subset of” etc are dep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sy to compare Venn Diagrams because of their visu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andb" descr=""/>
          <p:cNvPicPr/>
          <p:nvPr/>
        </p:nvPicPr>
        <p:blipFill>
          <a:blip r:embed="rId1"/>
          <a:stretch/>
        </p:blipFill>
        <p:spPr>
          <a:xfrm>
            <a:off x="1219320" y="464832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66" name="aorb" descr=""/>
          <p:cNvPicPr/>
          <p:nvPr/>
        </p:nvPicPr>
        <p:blipFill>
          <a:blip r:embed="rId2"/>
          <a:stretch/>
        </p:blipFill>
        <p:spPr>
          <a:xfrm>
            <a:off x="3733920" y="4800600"/>
            <a:ext cx="1523880" cy="1236600"/>
          </a:xfrm>
          <a:prstGeom prst="rect">
            <a:avLst/>
          </a:prstGeom>
          <a:ln w="0">
            <a:noFill/>
          </a:ln>
        </p:spPr>
      </p:pic>
      <p:pic>
        <p:nvPicPr>
          <p:cNvPr id="67" name="anotb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371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two following Venn diagrams show that the next two functions are eq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(A OR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OT(A)) AND (NOT(B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can write a small java program to verify this if you wa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809880"/>
            <a:ext cx="274320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191120"/>
            <a:ext cx="1143000" cy="1066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352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(A OR B)         (NOT(A)) AND (NOT(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4267080"/>
            <a:ext cx="45720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4800600"/>
            <a:ext cx="457200" cy="457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39160" y="4267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56440" y="48006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809880"/>
            <a:ext cx="27432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267080"/>
            <a:ext cx="1143000" cy="1067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267080"/>
            <a:ext cx="1143000" cy="10670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379760"/>
            <a:ext cx="419400" cy="8654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1143000" cy="10666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267080"/>
            <a:ext cx="41904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209680" y="5562360"/>
            <a:ext cx="6098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6172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shaded part is equal to double-shaded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6172200"/>
            <a:ext cx="5867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556236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9360" y="4302000"/>
            <a:ext cx="457200" cy="4572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360" y="4911840"/>
            <a:ext cx="457200" cy="4572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884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4320" y="491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8:19:19Z</dcterms:created>
  <dc:creator>Opatis</dc:creator>
  <dc:description/>
  <dc:language>en-US</dc:language>
  <cp:lastModifiedBy>x</cp:lastModifiedBy>
  <dcterms:modified xsi:type="dcterms:W3CDTF">1999-12-04T11:19:43Z</dcterms:modified>
  <cp:revision>69</cp:revision>
  <dc:subject/>
  <dc:title>The History of Dia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nott.ac.uk/~azt</vt:lpwstr>
  </property>
  <property fmtid="{D5CDD505-2E9C-101B-9397-08002B2CF9AE}" pid="9" name="LinkColor">
    <vt:r8>16711782</vt:r8>
  </property>
  <property fmtid="{D5CDD505-2E9C-101B-9397-08002B2CF9AE}" pid="10" name="MailAddress">
    <vt:lpwstr>azt@cs.nott.ac.uk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thanassis\SWT-diagram-lectures\we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