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DE8-6319-4E5B-ACAD-4C0C75BA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65A-194F-4B81-A397-9F330BA2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BB6-0360-4AD3-9705-E11B3EF8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592-E332-437C-A41D-888D6281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649-95DD-4BEA-80A9-16C7F2F8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175-45B0-4342-A8CD-FE988A4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233-8781-4FBD-B06E-FC1E9C4F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FE6-A1D3-4E12-84D8-D1A98F8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869-E393-4FB6-9E4E-6A0857B4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17D-B3DF-4B36-926A-740C432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21E-6D71-4975-BA82-95BCDDC7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B3A-9212-460E-BB41-1339C0C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4CED-2829-49EA-B6A8-D08EEC7A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SWT - Diagram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333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cture 4/4 - Diagramming in OO Software Development - par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4-May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lass-diag" descr=""/>
          <p:cNvPicPr/>
          <p:nvPr/>
        </p:nvPicPr>
        <p:blipFill>
          <a:blip r:embed="rId1"/>
          <a:stretch/>
        </p:blipFill>
        <p:spPr>
          <a:xfrm>
            <a:off x="2568600" y="1536840"/>
            <a:ext cx="41846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 Use Case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use-case" descr=""/>
          <p:cNvPicPr/>
          <p:nvPr/>
        </p:nvPicPr>
        <p:blipFill>
          <a:blip r:embed="rId1"/>
          <a:stretch/>
        </p:blipFill>
        <p:spPr>
          <a:xfrm>
            <a:off x="792000" y="1149480"/>
            <a:ext cx="7402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2. Class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724200"/>
            <a:ext cx="23623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1655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9200" y="370836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5156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51562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+ Public Operatio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# Protected Operatio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 Private Operatio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9520" y="4165560"/>
            <a:ext cx="20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+ Public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# Protect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 Private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49560" y="419112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3898800"/>
            <a:ext cx="1663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1529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99000" y="4356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27880" y="382284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45840" y="3860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03720" y="4927680"/>
            <a:ext cx="1295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5120" y="4851360"/>
            <a:ext cx="228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9160" y="2222280"/>
            <a:ext cx="3886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icity : 1,0..1,*,M..N, N, M..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762440"/>
            <a:ext cx="1663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5016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99000" y="52196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46864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3680" y="45338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589284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1960" y="5600880"/>
            <a:ext cx="1663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11960" y="5854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24560" y="6058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3440" y="552456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81040" y="551196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Depend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0" y="2095560"/>
            <a:ext cx="2311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74640" y="2552760"/>
            <a:ext cx="229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3080" y="203184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Abstract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413080" y="2768400"/>
            <a:ext cx="0" cy="965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7080" y="3073320"/>
            <a:ext cx="434880" cy="29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17920" y="309888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 Narrow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257800" y="2717640"/>
            <a:ext cx="355680" cy="97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2451240"/>
            <a:ext cx="229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lass-diag" descr=""/>
          <p:cNvPicPr/>
          <p:nvPr/>
        </p:nvPicPr>
        <p:blipFill>
          <a:blip r:embed="rId1"/>
          <a:stretch/>
        </p:blipFill>
        <p:spPr>
          <a:xfrm>
            <a:off x="320760" y="0"/>
            <a:ext cx="84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gef" descr=""/>
          <p:cNvPicPr/>
          <p:nvPr/>
        </p:nvPicPr>
        <p:blipFill>
          <a:blip r:embed="rId1"/>
          <a:stretch/>
        </p:blipFill>
        <p:spPr>
          <a:xfrm>
            <a:off x="1576440" y="0"/>
            <a:ext cx="63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3. Objec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object/instance diagram represents a concrete situation at a give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expresses both the static structure -found in class diagrams- and behavi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ject diagrams contain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onnected by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nk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ject Diagrams are mainly used to show a context of interaction or to facilitate the understanding of a complex data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8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n Object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8880" y="1486080"/>
            <a:ext cx="1358640" cy="77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00440" y="14590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myCar :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28880" y="18795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3640" y="4102200"/>
            <a:ext cx="1955880" cy="9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01080" y="411336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myEngine :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3640" y="4495680"/>
            <a:ext cx="19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68680" y="1409760"/>
            <a:ext cx="1219320" cy="71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91720" y="1370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1 :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73988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387520"/>
            <a:ext cx="121932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04320" y="23479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2 :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94240" y="2717640"/>
            <a:ext cx="118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94240" y="3340080"/>
            <a:ext cx="121896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16920" y="330048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3 :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6840" y="367020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343400"/>
            <a:ext cx="121932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04320" y="43038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4 :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94240" y="4673520"/>
            <a:ext cx="118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82680" y="2273400"/>
            <a:ext cx="0" cy="18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87520" y="17017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62240" y="1701720"/>
            <a:ext cx="0" cy="290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62240" y="464832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74840" y="349236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49640" y="25272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08640" y="2482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6200" y="1447920"/>
            <a:ext cx="914400" cy="71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29200" y="142092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6200" y="1841400"/>
            <a:ext cx="8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81760" y="198108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32520" y="2870280"/>
            <a:ext cx="914400" cy="71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06240" y="28432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32520" y="326376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58080" y="340344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65960" y="1473120"/>
            <a:ext cx="91440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40040" y="144612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65960" y="1866960"/>
            <a:ext cx="8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200664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34040" y="2171880"/>
            <a:ext cx="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83560" y="16257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440" y="2144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32600" y="2525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22960" y="12049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0240" y="12175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40040" y="379584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sition 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44578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6520" y="438156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9400" y="467208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 containm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5130720"/>
            <a:ext cx="229860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86920" y="5141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myCar :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5524560"/>
            <a:ext cx="226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53160" y="5613480"/>
            <a:ext cx="1955880" cy="55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0240" y="56246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myEngine :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53160" y="6006960"/>
            <a:ext cx="19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056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4. Sequenc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equence diagrams focus on displaying the interaction between objects, without representing explicitly the context of interaction and the object’s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picting the chronology of the message broadcast, they are useful in all stages of OO modell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78040" y="3886200"/>
            <a:ext cx="13590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0680" y="38592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: C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87520" y="431784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886200"/>
            <a:ext cx="13590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02000" y="38592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: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31784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3911760"/>
            <a:ext cx="13590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388476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: Recip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29480" y="434340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87520" y="469908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387520" y="501660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3080" y="532116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63840" y="565164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038120" y="5943600"/>
            <a:ext cx="17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451240" y="623556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86800" y="43909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ick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8840" y="46702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al 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50880" y="4987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93720" y="528012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14360" y="5648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ick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90120" y="59151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ays hell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 Sequence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sequence" descr=""/>
          <p:cNvPicPr/>
          <p:nvPr/>
        </p:nvPicPr>
        <p:blipFill>
          <a:blip r:embed="rId1"/>
          <a:stretch/>
        </p:blipFill>
        <p:spPr>
          <a:xfrm>
            <a:off x="2238480" y="1138320"/>
            <a:ext cx="527688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5. Collaboratio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35040" y="14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llaboration Diagrams express both the context of a group of objects and the interaction between thes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considered to be an extension of Object diagrams, adding notation to represent object inte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ssages are depicted using lines decorated with an arrow that points towards the recip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indicate the sending order, messages are explicitly numb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667560" y="1663560"/>
            <a:ext cx="15620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42000" y="1701720"/>
            <a:ext cx="15620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82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 Collaboration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130400" y="4457880"/>
            <a:ext cx="406440" cy="647280"/>
            <a:chOff x="1130400" y="4457880"/>
            <a:chExt cx="406440" cy="647280"/>
          </a:xfrm>
        </p:grpSpPr>
        <p:sp>
          <p:nvSpPr>
            <p:cNvPr id="280" name=""/>
            <p:cNvSpPr/>
            <p:nvPr/>
          </p:nvSpPr>
          <p:spPr>
            <a:xfrm>
              <a:off x="1226520" y="4457880"/>
              <a:ext cx="256680" cy="16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44240" y="4619880"/>
              <a:ext cx="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151640" y="492696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1333800" y="492696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30400" y="47088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387520" y="3327480"/>
            <a:ext cx="156204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58720" y="33004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myOrder: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60920" y="2438280"/>
            <a:ext cx="1562040" cy="41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32120" y="241128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myitem: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3840" y="1739880"/>
            <a:ext cx="156240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88720" y="178920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stocktem: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6800" y="3619440"/>
            <a:ext cx="20826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89080" y="359244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</a:rPr>
              <a:t>op: Order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562040" y="3758760"/>
            <a:ext cx="95256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975120" y="2692080"/>
            <a:ext cx="6732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222960" y="2019240"/>
            <a:ext cx="393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22960" y="2666880"/>
            <a:ext cx="40644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689120" y="3822840"/>
            <a:ext cx="3938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102200" y="2704680"/>
            <a:ext cx="39348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248520" y="2031840"/>
            <a:ext cx="2286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62640" y="2755800"/>
            <a:ext cx="266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2040" y="3451320"/>
            <a:ext cx="13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 : Enter i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00600" y="26258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 : get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38240" y="18763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 : *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6320" y="27655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4 : get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evious Lecture Re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O Introdu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O Design Notations, Booch-OMT-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bjects, Messages / Control &amp; Data Flow,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lass Attributes and Oper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Visibility of Attributes and Oper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lationship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ssociation, Multiplicity, Aggreg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pendency, Inheri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bject Oriented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6. Statechar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3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 state machine can be used to describe formally the behaviour of objects in terms of states and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tatecharts represent with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tates : the state of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ransitions : the passing from one state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vents : the occurrence of a given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uards : conditions for the trigger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ctions and activities : operations of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94440" y="3581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7360" y="3568680"/>
            <a:ext cx="266760" cy="29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89440" y="3543480"/>
            <a:ext cx="1206720" cy="330120"/>
          </a:xfrm>
          <a:prstGeom prst="roundRect">
            <a:avLst>
              <a:gd name="adj" fmla="val 19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75520" y="3619440"/>
            <a:ext cx="190440" cy="165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6600" y="32479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42720" y="3222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23240" y="324792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27800" y="4025880"/>
            <a:ext cx="571680" cy="216000"/>
          </a:xfrm>
          <a:prstGeom prst="roundRect">
            <a:avLst>
              <a:gd name="adj" fmla="val 38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15480" y="4025880"/>
            <a:ext cx="571320" cy="216000"/>
          </a:xfrm>
          <a:prstGeom prst="roundRect">
            <a:avLst>
              <a:gd name="adj" fmla="val 26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24680" y="41274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8640" y="4457880"/>
            <a:ext cx="571320" cy="215640"/>
          </a:xfrm>
          <a:prstGeom prst="roundRect">
            <a:avLst>
              <a:gd name="adj" fmla="val 205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64360" y="4457880"/>
            <a:ext cx="571680" cy="215640"/>
          </a:xfrm>
          <a:prstGeom prst="roundRect">
            <a:avLst>
              <a:gd name="adj" fmla="val 26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75520" y="45594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25920" y="427680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56480" y="5029200"/>
            <a:ext cx="571320" cy="216000"/>
          </a:xfrm>
          <a:prstGeom prst="roundRect">
            <a:avLst>
              <a:gd name="adj" fmla="val 323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42200" y="5029200"/>
            <a:ext cx="571680" cy="216000"/>
          </a:xfrm>
          <a:prstGeom prst="roundRect">
            <a:avLst>
              <a:gd name="adj" fmla="val 26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53360" y="5130720"/>
            <a:ext cx="850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26640" y="4670280"/>
            <a:ext cx="12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vent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[con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Two StateChar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27000" y="243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2425680"/>
            <a:ext cx="1206360" cy="330120"/>
          </a:xfrm>
          <a:prstGeom prst="roundRect">
            <a:avLst>
              <a:gd name="adj" fmla="val 23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23972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RL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349360" y="20829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9360" y="2070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65640" y="207000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95480" y="255276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04600" y="16732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t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3280" y="3413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ait for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01720" y="3416400"/>
            <a:ext cx="1384560" cy="330120"/>
          </a:xfrm>
          <a:prstGeom prst="roundRect">
            <a:avLst>
              <a:gd name="adj" fmla="val 23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27280" y="4343400"/>
            <a:ext cx="1206360" cy="330120"/>
          </a:xfrm>
          <a:prstGeom prst="roundRect">
            <a:avLst>
              <a:gd name="adj" fmla="val 23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05400" y="4314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9360" y="276876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36760" y="37591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71160" y="29052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fix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96640" y="384480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ngth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730600" y="402588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0600" y="40132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46520" y="401328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98404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56480" y="455616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te read [Count&lt;Lengt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36760" y="47242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97080" y="5346720"/>
            <a:ext cx="266760" cy="29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35240" y="5397480"/>
            <a:ext cx="190440" cy="165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68560" y="255276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95880" y="4950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ffix read [Count==Lengt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15080" y="2236680"/>
            <a:ext cx="939600" cy="330480"/>
          </a:xfrm>
          <a:prstGeom prst="roundRect">
            <a:avLst>
              <a:gd name="adj" fmla="val 23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91040" y="2219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a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2225520"/>
            <a:ext cx="863640" cy="330480"/>
          </a:xfrm>
          <a:prstGeom prst="roundRect">
            <a:avLst>
              <a:gd name="adj" fmla="val 346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440" y="22068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n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70880" y="2238480"/>
            <a:ext cx="787320" cy="330120"/>
          </a:xfrm>
          <a:prstGeom prst="roundRect">
            <a:avLst>
              <a:gd name="adj" fmla="val 19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480" y="2219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03720" y="22986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44920" y="241308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80240" y="238752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26280" y="24004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27400" y="1955880"/>
            <a:ext cx="4660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91240" y="3646440"/>
            <a:ext cx="1384200" cy="330120"/>
          </a:xfrm>
          <a:prstGeom prst="roundRect">
            <a:avLst>
              <a:gd name="adj" fmla="val 19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70440" y="3629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ened d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88120" y="2946240"/>
            <a:ext cx="0" cy="73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40960" y="31212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ened d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33840" y="2540160"/>
            <a:ext cx="33012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69960" y="34765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osed d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44640" y="25113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673520" y="3822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686480" y="287028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7. Activity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ctivity diagrams ar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variant of statechart diagrams, organised according to a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argeted towards representing the internal behaviour of a method, a mechanism or a us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n activity is represented by a round rectangl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cisions are represented using a diamon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nchronisation bars are used for synchr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wimlanes are used to split the activity diagram in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54880" y="3809880"/>
            <a:ext cx="1206360" cy="33048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61040" y="4381560"/>
            <a:ext cx="330480" cy="3175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n Activity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2184480"/>
            <a:ext cx="1625760" cy="330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11040" y="21812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3720960"/>
            <a:ext cx="990720" cy="33048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23440" y="371808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t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27480" y="3708360"/>
            <a:ext cx="1168200" cy="330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79320" y="3705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ol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2793960"/>
            <a:ext cx="330480" cy="3175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44720" y="25401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879560" y="3060720"/>
            <a:ext cx="8510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1040" y="3048120"/>
            <a:ext cx="6984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05480" y="29304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 too cold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90680" y="29941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 too hot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788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22840" y="406404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5156280"/>
            <a:ext cx="1726920" cy="330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65920" y="51274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witch off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68960" y="5143680"/>
            <a:ext cx="1447560" cy="3301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20440" y="511488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en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37040" y="47880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8006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8. Componen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43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onent diagrams depict software components and their relationships within the implementation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onents can be all kind of software elements : files, libraries, databases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onents contain two par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dependency relationship between components usually represent compilation depend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onents may contain processes using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ment and can be grouped in subsystem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9480" y="3327480"/>
            <a:ext cx="133344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11960" y="3873600"/>
            <a:ext cx="6094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11960" y="3505320"/>
            <a:ext cx="6094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74880" y="36036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18240" y="3695760"/>
            <a:ext cx="24156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162560" y="38098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43720" y="393372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59880" y="5092560"/>
            <a:ext cx="5792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2720" y="5329080"/>
            <a:ext cx="2649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32720" y="5170320"/>
            <a:ext cx="264960" cy="1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505720" y="5253120"/>
            <a:ext cx="104760" cy="10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349840" y="5302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758000" y="4356000"/>
            <a:ext cx="57960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4592520"/>
            <a:ext cx="2649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0120" y="4433760"/>
            <a:ext cx="2649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93120" y="4516560"/>
            <a:ext cx="104760" cy="10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337240" y="4565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8064360" y="4622400"/>
            <a:ext cx="482760" cy="46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93760" y="1536840"/>
            <a:ext cx="7112160" cy="32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56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 Component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87720" y="1854360"/>
            <a:ext cx="133344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70200" y="2400480"/>
            <a:ext cx="6098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70200" y="2031840"/>
            <a:ext cx="60984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32040" y="213048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76840" y="22226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321160" y="233676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37040" y="3543480"/>
            <a:ext cx="133344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089240"/>
            <a:ext cx="60948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3720960"/>
            <a:ext cx="60948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02360" y="3654360"/>
            <a:ext cx="10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26160" y="391176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470120" y="40258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78360" y="3581280"/>
            <a:ext cx="133380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60840" y="4127400"/>
            <a:ext cx="60984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60840" y="3759120"/>
            <a:ext cx="60984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09920" y="374328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67480" y="3949560"/>
            <a:ext cx="24156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111800" y="40640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62240" y="5207040"/>
            <a:ext cx="133344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44720" y="5753160"/>
            <a:ext cx="6098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44720" y="5384880"/>
            <a:ext cx="6098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31240" y="54957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51360" y="5575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495680" y="568944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42080" y="5156280"/>
            <a:ext cx="133344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24560" y="5702400"/>
            <a:ext cx="6094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24560" y="5334120"/>
            <a:ext cx="6094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72200" y="5330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531200" y="552456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7175160" y="56386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840" y="3276720"/>
            <a:ext cx="2070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11440" y="1673280"/>
            <a:ext cx="11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1905120"/>
            <a:ext cx="2070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11680" y="2832120"/>
            <a:ext cx="27936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45400" y="2933640"/>
            <a:ext cx="685800" cy="1003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40360" y="4495680"/>
            <a:ext cx="81252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81680" y="4572000"/>
            <a:ext cx="825480" cy="977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5321160" y="2679840"/>
            <a:ext cx="1511280" cy="24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029200" y="4572000"/>
            <a:ext cx="1015920" cy="977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9. Deploymen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ployment diagrams are used to illustrate the physical layout of the various hardware components that are needed for a system to ope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ardware resources are represented by a cub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nes annotated with multiplicity information are used to connect c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21640" y="3149640"/>
            <a:ext cx="896760" cy="79524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440" y="334980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546440"/>
            <a:ext cx="325440" cy="33840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13400" y="4533840"/>
            <a:ext cx="325440" cy="33804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27600" y="4699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83080" y="457056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99360" y="455760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28840" y="471024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68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 Deployment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49440" y="1765440"/>
            <a:ext cx="1468440" cy="132876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11280" y="21556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MclientJ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87600" y="3225960"/>
            <a:ext cx="1468440" cy="132840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35760" y="3730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MclientAW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25760" y="4749840"/>
            <a:ext cx="1468440" cy="132876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86520" y="51404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MclientC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111480"/>
            <a:ext cx="1468440" cy="132876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92720" y="350208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robi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37440" y="1701720"/>
            <a:ext cx="1468440" cy="132876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363000" y="209232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M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&lt;zeu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37440" y="3111480"/>
            <a:ext cx="1468440" cy="1328760"/>
          </a:xfrm>
          <a:prstGeom prst="cube">
            <a:avLst>
              <a:gd name="adj" fmla="val 1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88560" y="3527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M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&lt;robi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70280" y="2425680"/>
            <a:ext cx="132084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33640" y="388620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971800" y="4051440"/>
            <a:ext cx="121932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562720" y="2526840"/>
            <a:ext cx="774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49760" y="3822840"/>
            <a:ext cx="774720" cy="3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low of data between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0240" y="2781360"/>
            <a:ext cx="157500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79760" y="1359000"/>
            <a:ext cx="1689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4165560"/>
            <a:ext cx="157500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64160" y="2577960"/>
            <a:ext cx="1575000" cy="124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35240" y="3352680"/>
            <a:ext cx="420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12640" y="3006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asses &amp;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83080" y="262908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81560" y="367992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05240" y="13557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a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9800" y="28036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 Cas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19800" y="42260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t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15640" y="2625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245200" y="1752480"/>
            <a:ext cx="189216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5200" y="1994040"/>
            <a:ext cx="143496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6240" y="16858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1880" y="22953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94440" y="3860640"/>
            <a:ext cx="175248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219640" y="3898440"/>
            <a:ext cx="231156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71640" y="378144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0600" y="45054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4051440"/>
            <a:ext cx="19177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31480" y="45054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600200" y="1802880"/>
            <a:ext cx="1828800" cy="97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1280" y="18892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39960" y="3289320"/>
            <a:ext cx="1002960" cy="431640"/>
            <a:chOff x="939960" y="3289320"/>
            <a:chExt cx="1002960" cy="431640"/>
          </a:xfrm>
        </p:grpSpPr>
        <p:sp>
          <p:nvSpPr>
            <p:cNvPr id="512" name=""/>
            <p:cNvSpPr/>
            <p:nvPr/>
          </p:nvSpPr>
          <p:spPr>
            <a:xfrm>
              <a:off x="1443960" y="3348360"/>
              <a:ext cx="49896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23920" y="3534840"/>
              <a:ext cx="30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939960" y="3289320"/>
              <a:ext cx="155160" cy="431640"/>
              <a:chOff x="939960" y="3289320"/>
              <a:chExt cx="155160" cy="431640"/>
            </a:xfrm>
          </p:grpSpPr>
          <p:sp>
            <p:nvSpPr>
              <p:cNvPr id="515" name=""/>
              <p:cNvSpPr/>
              <p:nvPr/>
            </p:nvSpPr>
            <p:spPr>
              <a:xfrm>
                <a:off x="976680" y="3289320"/>
                <a:ext cx="9792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021680" y="3397320"/>
                <a:ext cx="0" cy="19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947880" y="3602160"/>
                <a:ext cx="7344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1017720" y="3602160"/>
                <a:ext cx="7344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39960" y="3456360"/>
                <a:ext cx="15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3780000" y="1736640"/>
            <a:ext cx="1109520" cy="739800"/>
            <a:chOff x="3780000" y="1736640"/>
            <a:chExt cx="1109520" cy="739800"/>
          </a:xfrm>
        </p:grpSpPr>
        <p:sp>
          <p:nvSpPr>
            <p:cNvPr id="521" name=""/>
            <p:cNvSpPr/>
            <p:nvPr/>
          </p:nvSpPr>
          <p:spPr>
            <a:xfrm>
              <a:off x="3780000" y="1736640"/>
              <a:ext cx="313200" cy="12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20040" y="1864440"/>
              <a:ext cx="0" cy="6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0880" y="1736640"/>
              <a:ext cx="314280" cy="12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02360" y="1864440"/>
              <a:ext cx="0" cy="6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5240" y="1744560"/>
              <a:ext cx="314280" cy="12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6360" y="1872720"/>
              <a:ext cx="0" cy="6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20040" y="19785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919680" y="207180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26160" y="216288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38040" y="2261160"/>
              <a:ext cx="7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4302000" y="23472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934800" y="2434680"/>
              <a:ext cx="7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6840360" y="3022560"/>
            <a:ext cx="338400" cy="2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40360" y="318600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0080" y="324468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72280" y="3463920"/>
            <a:ext cx="338040" cy="2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72280" y="362736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82000" y="3686040"/>
            <a:ext cx="32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61280" y="3033720"/>
            <a:ext cx="338040" cy="2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61280" y="319716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370640" y="325584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905520" y="3324240"/>
            <a:ext cx="2793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182000" y="30970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11600" y="5003640"/>
            <a:ext cx="152280" cy="177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842000" y="5054760"/>
            <a:ext cx="177840" cy="215640"/>
            <a:chOff x="4842000" y="5054760"/>
            <a:chExt cx="177840" cy="215640"/>
          </a:xfrm>
        </p:grpSpPr>
        <p:sp>
          <p:nvSpPr>
            <p:cNvPr id="546" name=""/>
            <p:cNvSpPr/>
            <p:nvPr/>
          </p:nvSpPr>
          <p:spPr>
            <a:xfrm>
              <a:off x="4842000" y="5054760"/>
              <a:ext cx="1778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67200" y="5092200"/>
              <a:ext cx="1267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940200" y="4699080"/>
            <a:ext cx="901440" cy="190440"/>
            <a:chOff x="3940200" y="4699080"/>
            <a:chExt cx="901440" cy="190440"/>
          </a:xfrm>
        </p:grpSpPr>
        <p:sp>
          <p:nvSpPr>
            <p:cNvPr id="549" name=""/>
            <p:cNvSpPr/>
            <p:nvPr/>
          </p:nvSpPr>
          <p:spPr>
            <a:xfrm>
              <a:off x="3940200" y="4699080"/>
              <a:ext cx="379080" cy="190440"/>
            </a:xfrm>
            <a:prstGeom prst="roundRect">
              <a:avLst>
                <a:gd name="adj" fmla="val 3823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62560" y="4699080"/>
              <a:ext cx="379080" cy="190440"/>
            </a:xfrm>
            <a:prstGeom prst="roundRect">
              <a:avLst>
                <a:gd name="adj" fmla="val 2647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36200" y="4788720"/>
              <a:ext cx="13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 flipV="1">
            <a:off x="3784680" y="4889520"/>
            <a:ext cx="13968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13200" y="4876920"/>
            <a:ext cx="507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0360" y="5827680"/>
            <a:ext cx="72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siness Model -&gt; Logical Model -&gt; Component Model -&gt; Deploymen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ML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ML at rational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ttp://www.rational.com/um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ist of tools supporting UML diagram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ttp://plg.uwaterloo.ca/~migod/um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etus page on UML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ttp://www.cetus-links.org/oo_um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troduction to 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oals, History - Timeline, External infl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e 9 types of UML diagram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se Case, Class, Object, Sequence, Collabor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tatechart, Activity, Component,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Flow of data between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ML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end of diagrammatics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136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fied Modelling Languag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rehensive 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nguage, Process and Tool in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 goal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represent comple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establish explicit coupling between concepts and executab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take into account scal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allow use by both humans and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ML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640" y="2717640"/>
            <a:ext cx="15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arious O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2360" y="39006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ooch’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0120" y="4422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M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586116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44038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M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60280" y="38988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ooch’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58480" y="3794040"/>
            <a:ext cx="93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h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97040" y="3813120"/>
            <a:ext cx="8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01320" y="389880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ML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92560" y="390852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ML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52800" y="3257640"/>
            <a:ext cx="1704960" cy="69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408636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86280" y="408636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8840" y="4610160"/>
            <a:ext cx="65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14560" y="4238640"/>
            <a:ext cx="89532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76360" y="4390560"/>
            <a:ext cx="3743280" cy="16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6480" y="404820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49440" y="52610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M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667480" y="4200120"/>
            <a:ext cx="92376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5600" y="40291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62880" y="4086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695920" y="4219200"/>
            <a:ext cx="2114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521080"/>
            <a:ext cx="79628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78640" y="211788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26200" y="211788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35960" y="1822320"/>
            <a:ext cx="64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69600" y="1793880"/>
            <a:ext cx="64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xternal Infl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2040" y="1324080"/>
            <a:ext cx="790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rigi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ooch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tegories /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mbley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ingleton classes / Composi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OF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ameworks /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arel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tatechar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Jacobso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yer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e/Pos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dell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ynamic classification /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M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hlaer-Mellor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bject Life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rifs-Broc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sponsibilities / Collab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5160" y="1266840"/>
            <a:ext cx="7925040" cy="50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733400"/>
            <a:ext cx="793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52880" y="1266840"/>
            <a:ext cx="0" cy="501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ML diagram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1037880"/>
            <a:ext cx="80834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r Requiremen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.Use C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system functions from a user’s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atic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2.Clas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objects and thei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3.Objec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classes and thei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4.Sequenc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dynamic object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5.Collaboration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object and their links/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6.Statechar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behaviour of a class that has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7.Activity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operation behaviour (as a set of a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8.Componen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software componen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9.Deploymen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software on particular hardware platforms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1. Use cas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7988400" cy="28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 case diagram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behaviour of a system from a user’s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pict relationships between the system and its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 the definition of the systems’ bound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use case diagram can be seen as an instance of interaction between “actors” and th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11760" y="5969160"/>
            <a:ext cx="406080" cy="647280"/>
            <a:chOff x="3911760" y="5969160"/>
            <a:chExt cx="406080" cy="647280"/>
          </a:xfrm>
        </p:grpSpPr>
        <p:sp>
          <p:nvSpPr>
            <p:cNvPr id="88" name=""/>
            <p:cNvSpPr/>
            <p:nvPr/>
          </p:nvSpPr>
          <p:spPr>
            <a:xfrm>
              <a:off x="4007880" y="5969160"/>
              <a:ext cx="256320" cy="16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25240" y="6131160"/>
              <a:ext cx="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33000" y="643824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114800" y="643824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11760" y="622008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7480" y="4165560"/>
            <a:ext cx="406440" cy="647280"/>
            <a:chOff x="5397480" y="4165560"/>
            <a:chExt cx="406440" cy="647280"/>
          </a:xfrm>
        </p:grpSpPr>
        <p:sp>
          <p:nvSpPr>
            <p:cNvPr id="94" name=""/>
            <p:cNvSpPr/>
            <p:nvPr/>
          </p:nvSpPr>
          <p:spPr>
            <a:xfrm>
              <a:off x="5493600" y="4165560"/>
              <a:ext cx="256680" cy="16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1320" y="4327560"/>
              <a:ext cx="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418720" y="463464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600880" y="463464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7480" y="441648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71880" y="5423040"/>
            <a:ext cx="406080" cy="647280"/>
            <a:chOff x="2171880" y="5423040"/>
            <a:chExt cx="406080" cy="647280"/>
          </a:xfrm>
        </p:grpSpPr>
        <p:sp>
          <p:nvSpPr>
            <p:cNvPr id="100" name=""/>
            <p:cNvSpPr/>
            <p:nvPr/>
          </p:nvSpPr>
          <p:spPr>
            <a:xfrm>
              <a:off x="2268000" y="5423040"/>
              <a:ext cx="256320" cy="16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85360" y="5585040"/>
              <a:ext cx="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193120" y="589212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2374920" y="589212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1880" y="567396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562720" y="5435640"/>
            <a:ext cx="406440" cy="647280"/>
            <a:chOff x="5562720" y="5435640"/>
            <a:chExt cx="406440" cy="647280"/>
          </a:xfrm>
        </p:grpSpPr>
        <p:sp>
          <p:nvSpPr>
            <p:cNvPr id="106" name=""/>
            <p:cNvSpPr/>
            <p:nvPr/>
          </p:nvSpPr>
          <p:spPr>
            <a:xfrm>
              <a:off x="5658840" y="5435640"/>
              <a:ext cx="256680" cy="16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76560" y="5597640"/>
              <a:ext cx="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583960" y="590472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766120" y="590472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2720" y="56865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33720" y="4330800"/>
            <a:ext cx="406440" cy="647280"/>
            <a:chOff x="2133720" y="4330800"/>
            <a:chExt cx="406440" cy="647280"/>
          </a:xfrm>
        </p:grpSpPr>
        <p:sp>
          <p:nvSpPr>
            <p:cNvPr id="112" name=""/>
            <p:cNvSpPr/>
            <p:nvPr/>
          </p:nvSpPr>
          <p:spPr>
            <a:xfrm>
              <a:off x="2229840" y="4330800"/>
              <a:ext cx="256680" cy="16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7560" y="4492800"/>
              <a:ext cx="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154960" y="479988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337120" y="479988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720" y="458172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25960" y="4711680"/>
            <a:ext cx="1676160" cy="546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48360" y="458316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9440" y="61070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06400" y="624672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chi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9280" y="559908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9440" y="42940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al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7640" y="4648320"/>
            <a:ext cx="6224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654280" y="5156280"/>
            <a:ext cx="78732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292640" y="5257440"/>
            <a:ext cx="17784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800600" y="5143320"/>
            <a:ext cx="73656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851360" y="4546440"/>
            <a:ext cx="57168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5760" y="430704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exp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6240" y="5068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8200" y="53611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6160" y="50180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erif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04720" y="4281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der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428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e Cas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contain any of the following relationship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unica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d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60720" y="5472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&lt;extends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8160" y="3098880"/>
            <a:ext cx="13082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C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4330800"/>
            <a:ext cx="13082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C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4330800"/>
            <a:ext cx="13078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C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19240" y="5715000"/>
            <a:ext cx="13082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C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29280" y="5715000"/>
            <a:ext cx="13078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C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0080" y="337824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0080" y="459756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13800">
            <a:off x="3886200" y="4457520"/>
            <a:ext cx="307800" cy="241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65640" y="60069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13800">
            <a:off x="3911400" y="5867280"/>
            <a:ext cx="307800" cy="241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64200" y="30081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ig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75200" y="408780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&lt;uses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57680" y="3009960"/>
            <a:ext cx="406080" cy="647280"/>
            <a:chOff x="2857680" y="3009960"/>
            <a:chExt cx="406080" cy="647280"/>
          </a:xfrm>
        </p:grpSpPr>
        <p:sp>
          <p:nvSpPr>
            <p:cNvPr id="149" name=""/>
            <p:cNvSpPr/>
            <p:nvPr/>
          </p:nvSpPr>
          <p:spPr>
            <a:xfrm>
              <a:off x="2953800" y="3009960"/>
              <a:ext cx="256320" cy="16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71160" y="3171960"/>
              <a:ext cx="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8920" y="347904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060720" y="3479040"/>
              <a:ext cx="19224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57680" y="326088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8:19:19Z</dcterms:created>
  <dc:creator>Opatis</dc:creator>
  <dc:description/>
  <dc:language>en-US</dc:language>
  <cp:lastModifiedBy>x</cp:lastModifiedBy>
  <cp:lastPrinted>1999-11-30T05:04:52Z</cp:lastPrinted>
  <dcterms:modified xsi:type="dcterms:W3CDTF">1999-11-30T07:23:54Z</dcterms:modified>
  <cp:revision>91</cp:revision>
  <dc:subject/>
  <dc:title>The History of Diagrams</dc:title>
</cp:coreProperties>
</file>